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6DC-C155-4780-880D-A5F1115A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563-A7FF-442E-8CD9-7DBC389E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9B0-B03F-41BA-9A14-BFD81208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E39-D6CA-45BB-9C3F-0DAB545F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085-6073-443D-B605-524E3A2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C36-A0AE-419C-B395-37626E1C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0D0-8FE7-40A0-95BA-F1B447E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EC2-C44B-4F3C-BF3B-3A3C1F1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F57-F8E6-4553-8E1A-4C4AEA95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829-2D30-4A9C-8805-32290C5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CEA-D713-4B27-80AB-FD0D5A3B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D3B-27ED-4629-8C8B-F677EA1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7D9-9043-4500-B91F-716BE0B3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ismus1.files.wordpress.com/2007/04/eg-kub_2_1withpaint.jpg" TargetMode="External"/><Relationship Id="rId2" Type="http://schemas.openxmlformats.org/officeDocument/2006/relationships/hyperlink" Target="http://www.billybarton.com/blog/images/kidney_stone.jpg" TargetMode="External"/><Relationship Id="rId3" Type="http://schemas.openxmlformats.org/officeDocument/2006/relationships/hyperlink" Target="http://blog.luckyvitamin.com/wp-content/uploads/2007/11/kidney-stone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yourtech.typepad.com/main/WindowsLiveWriter/Windowsmonopolylinkedtokidneystones_10A83/KidneyStone1a%255B2%255D.jpg&amp;imgrefurl=http://yourtech.typepad.com/main/2007/05/index.html&amp;h=464&amp;w=640&amp;sz=169&amp;hl=en&amp;start=14&amp;um=1&amp;tbnid=p05Lslbc7ltVeM:&amp;tbnh=99&amp;tbnw=137&amp;prev=/images%3Fq%3Dkidney%2Bstones%26um%3D1%26hl%3Den%26safe%3Dactive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95280" y="19810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alcium_oxalate_kidney_stones_08-24-2006"/>
          <p:cNvPicPr/>
          <p:nvPr/>
        </p:nvPicPr>
        <p:blipFill>
          <a:blip r:embed="rId1"/>
          <a:stretch/>
        </p:blipFill>
        <p:spPr>
          <a:xfrm>
            <a:off x="1143000" y="685800"/>
            <a:ext cx="68389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990720" y="380880"/>
            <a:ext cx="7130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smus1.files.wordpress.com/2007/04/eg-kub_2_1withpai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llybarton.com/blog/images/kidney_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.bbc.co.uk/.../img/6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.luckyvitamin.com/wp-content/uploads/2007/11/kidney-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kidney+stones&amp;safe=active&amp;um=1&amp;ie=UTF-8&amp;sa=N&amp;tab=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keridgehealth.on.ca/patient_care/interventional_radiology/presentations/radiology/kidney_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cureforkidneystones.com/kidney_stones_in_wome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ogerwendell.com/images/cancer/calcium_oxalate_kidney_stones_08-24-200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kidney_stone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kidney-stone"/>
          <p:cNvPicPr/>
          <p:nvPr/>
        </p:nvPicPr>
        <p:blipFill>
          <a:blip r:embed="rId1"/>
          <a:stretch/>
        </p:blipFill>
        <p:spPr>
          <a:xfrm>
            <a:off x="1676520" y="380880"/>
            <a:ext cx="540072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KidneyStone1a%255B2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914400"/>
            <a:ext cx="6477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kidney_stone"/>
          <p:cNvPicPr/>
          <p:nvPr/>
        </p:nvPicPr>
        <p:blipFill>
          <a:blip r:embed="rId1"/>
          <a:stretch/>
        </p:blipFill>
        <p:spPr>
          <a:xfrm>
            <a:off x="1143000" y="457200"/>
            <a:ext cx="6324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5410080" y="703080"/>
            <a:ext cx="342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kidney stone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April 16, 2003, Don Winfield of Caledonia, Ontario, Canada, has produced and passed an excruciating 4,504 kidney stones, ranging in size from a grain of sand to a dried p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, the kidney had to be rem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At its worst," says Don, "I produced 22 stones in 24 hours... and 35 over a period of five day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9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g-kub_2_1withpaint"/>
          <p:cNvPicPr/>
          <p:nvPr/>
        </p:nvPicPr>
        <p:blipFill>
          <a:blip r:embed="rId1"/>
          <a:stretch/>
        </p:blipFill>
        <p:spPr>
          <a:xfrm>
            <a:off x="152388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kidney_stones_in_women"/>
          <p:cNvPicPr/>
          <p:nvPr/>
        </p:nvPicPr>
        <p:blipFill>
          <a:blip r:embed="rId1"/>
          <a:stretch/>
        </p:blipFill>
        <p:spPr>
          <a:xfrm>
            <a:off x="1523880" y="457200"/>
            <a:ext cx="61531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8:39:07Z</dcterms:created>
  <dc:creator>jcameron</dc:creator>
  <dc:description/>
  <dc:language>en-US</dc:language>
  <cp:lastModifiedBy>jcameron</cp:lastModifiedBy>
  <dcterms:modified xsi:type="dcterms:W3CDTF">2013-03-12T12:32:58Z</dcterms:modified>
  <cp:revision>7</cp:revision>
  <dc:subject/>
  <dc:title>Slide 1</dc:title>
</cp:coreProperties>
</file>